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DA487-8D3E-4790-AFD3-5BAEABEECA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0C683-C2AE-4F57-B13D-FE5E55666B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D3A34-2EB7-4238-9C30-64F1FDA4C4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131DE-C059-4711-9068-0F8A2189C5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5c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5c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5c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0FF53-2DEF-4A08-82F2-E72A538F33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804F8-D256-4FFD-906F-158C53CB0A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B00D5-32BA-4DA3-B4D4-125E667355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B2AD5-AE07-4026-BA67-F38AF6B695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5c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5BA19-D552-4B70-A05E-F2CF31E781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93471-DA01-43DE-AB84-8D09FD2843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1F089-B2E0-4869-80D8-1441BDBC69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F0113-0334-4367-9992-E6B028FEAC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5400" y="6357600"/>
            <a:ext cx="41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83B74-887A-4F34-A06E-AF460CF29640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547040" y="6178680"/>
            <a:ext cx="1116000" cy="5569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1030320" y="637056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9 Intel Corporation. All rights reserved. Intel, the Intel logo, Intel Education Initiative, and the Intel Teach Program are trademarks of Intel Corporation in the U.S. and other countries. 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480000" y="307800"/>
            <a:ext cx="2184480" cy="10922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4938840"/>
            <a:ext cx="87631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0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070680"/>
            <a:ext cx="482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"/>
          <p:cNvSpPr/>
          <p:nvPr/>
        </p:nvSpPr>
        <p:spPr>
          <a:xfrm>
            <a:off x="484200" y="654840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860a8"/>
                </a:solidFill>
                <a:latin typeface="Verdana"/>
              </a:rPr>
              <a:t>Copyright © 2009 Intel Corporation. All rights reserved. Intel, the Intel logo, Intel Education Initiative, and the Intel Teach Program are trademarks of Intel Corporation in the U.S. and other countries. 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61880" y="2152800"/>
            <a:ext cx="8301240" cy="2552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c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ff5c00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intel.com/education/au/visualranking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tmd.com.au/education/thinking/resources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4938840"/>
            <a:ext cx="87631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Intel</a:t>
            </a:r>
            <a:r>
              <a:rPr b="0" lang="en-US" sz="4100" spc="-1" strike="noStrike" baseline="30000">
                <a:solidFill>
                  <a:srgbClr val="0860a8"/>
                </a:solidFill>
                <a:latin typeface="Verdana"/>
              </a:rPr>
              <a:t>®</a:t>
            </a: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 Teach Program</a:t>
            </a:r>
            <a:endParaRPr b="0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0" y="5599080"/>
            <a:ext cx="87631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c00"/>
                </a:solidFill>
                <a:latin typeface="Verdana"/>
              </a:rPr>
              <a:t>Thinking with Technology Course</a:t>
            </a:r>
            <a:endParaRPr b="1" lang="en-US" sz="1800" spc="-1" strike="noStrike">
              <a:solidFill>
                <a:srgbClr val="ff5c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c00"/>
                </a:solidFill>
                <a:latin typeface="Verdana"/>
              </a:rPr>
              <a:t>Version 2 </a:t>
            </a:r>
            <a:endParaRPr b="1" lang="en-US" sz="1800" spc="-1" strike="noStrike">
              <a:solidFill>
                <a:srgbClr val="ff5c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6: Considering the Visual Ranking Tool for Your Unit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2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  <a:ea typeface="Times New Roman"/>
              </a:rPr>
              <a:t>Planning Your Project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 </a:t>
            </a:r>
            <a:br>
              <a:rPr sz="2600"/>
            </a:b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2: Planning Your Use of Visual Ranking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–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</a:t>
            </a: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6.09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pen the 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Unit Plan Templat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dd to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Visual Ranking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se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ject Tit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ject Descri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mp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R, use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Visual Ranking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ject Idea document available in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Thinking Tools, Visual Ranking Tool Resources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rom the resource file sit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3: Creating a Practice List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– Module 6.09–6.10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rainstorm a list of items to rank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8CC70-4013-4449-8A32-36F26B36CFB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6: Considering the Visual Ranking Tool for Your Unit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3  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etting up a Visual Ranking Project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82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82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1: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Creating a Visual Ranking Project from an</a:t>
            </a:r>
            <a:br>
              <a:rPr sz="1800"/>
            </a:b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Existing Project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–</a:t>
            </a: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6.11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3826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82680" indent="-38124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pen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Visual Ranking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rom your Favorit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82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intel.com/education/au/visualrank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82680" indent="-38124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rabicPeriod" startAt="2"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pen and copy an appropriate projec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82680" indent="-38124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rabicPeriod" startAt="2"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ake any changes you would like to the description, prompt, or li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82680" indent="-38124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rabicPeriod" startAt="2"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ave the chang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82680" indent="-38124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rabicPeriod" startAt="2"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py the project details into your Unit Plan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82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808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37A7B-FD58-41FC-9ED2-23677E95F44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6: Considering the Visual Ranking Tool for Your Unit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3 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etting up a Visual Ranking Project</a:t>
            </a:r>
            <a:r>
              <a:rPr b="1" lang="en-US" sz="2200" spc="-1" strike="noStrike">
                <a:solidFill>
                  <a:srgbClr val="0860a8"/>
                </a:solidFill>
                <a:latin typeface="Verdana"/>
              </a:rPr>
              <a:t> </a:t>
            </a:r>
            <a:br>
              <a:rPr sz="2200"/>
            </a:br>
            <a:endParaRPr b="1" lang="en-US" sz="2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49280" y="1676160"/>
            <a:ext cx="82375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2: Creating a New Visual Ranking Project</a:t>
            </a:r>
            <a:r>
              <a:rPr b="1" lang="en-US" sz="14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– Module 6.12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t up a new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Visual Ranking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project in the Teacher Worksp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ll in the requested information about your projec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ubmit the projec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EF897-2AE2-4227-9720-07895179DAC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6: Considering the Visual Ranking Tool for Your Unit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ctivity 3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Setting up a Visual Ranking Project</a:t>
            </a:r>
            <a:r>
              <a:rPr b="1" lang="en-US" sz="22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1" lang="en-US" sz="2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375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3: Creating Team IDs with the Project Wizard –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6.13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reate new teams using the Project Wiz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cord team IDs and passwo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4: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Creating Specialized Student Teams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– Module 6.14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Go to the Manage Project Teams page for your projec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dd a new student team with a unique team ID that identifies the team’s perspect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e a unique password for the tea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ubmit the team inform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5: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Recording Your Team ID Information 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– Module 6.14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cord your login inform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766FD-3041-4B01-A2A0-B72E082D2E9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6: Considering the Visual Ranking Tool for Your Unit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ctivity 4 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Trying Out Your Visual Ranking Idea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5760" y="15998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1: Creating a Practice Ranking</a:t>
            </a:r>
            <a:r>
              <a:rPr b="1" lang="en-US" sz="14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– Module 6.15 – 6.6.17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ork with another teacher or tea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est your concepts by ranking each other’s lis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actice discussions and questions you would ask your stud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witch and rank the other teacher’s or team’s li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cuss your rank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EC85F-82CA-457B-A912-BF613813FAF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6: Considering the Visual Ranking Tool for Your Unit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4 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rying Out Your Visual Ranking Idea</a:t>
            </a:r>
            <a:r>
              <a:rPr b="1" lang="en-US" sz="2200" spc="-1" strike="noStrike">
                <a:solidFill>
                  <a:srgbClr val="0860a8"/>
                </a:solidFill>
                <a:latin typeface="Verdana"/>
              </a:rPr>
              <a:t> </a:t>
            </a:r>
            <a:br>
              <a:rPr sz="2200"/>
            </a:br>
            <a:endParaRPr b="1" lang="en-US" sz="2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2: Assessing Your Practice Ranking</a:t>
            </a:r>
            <a:r>
              <a:rPr b="1" lang="en-US" sz="14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–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</a:t>
            </a: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6.18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ork with the other tea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the Visual Ranking Project Reflection Checklist to guide your discuss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3: Editing Your Project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– Module 6.19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pen the project name you want to edi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dd or edit student team inform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D0DC1-3111-490F-BCA7-528A52330EF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6: Considering the Visual Ranking Tool for Your Unit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4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rying Out Your Visual Ranking Idea</a:t>
            </a:r>
            <a:r>
              <a:rPr b="1" lang="en-US" sz="2200" spc="-1" strike="noStrike">
                <a:solidFill>
                  <a:srgbClr val="0860a8"/>
                </a:solidFill>
                <a:latin typeface="Verdana"/>
              </a:rPr>
              <a:t> </a:t>
            </a:r>
            <a:br>
              <a:rPr sz="2200"/>
            </a:br>
            <a:endParaRPr b="1" lang="en-US" sz="2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375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4: Reviewing Student Work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– Module 6.19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dd a comment to a student rank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View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Show Repor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o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5: Deleting a Project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– Module 6.19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lete a project in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anage Projects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BCA0E-2CDC-4DC7-B9F3-B435EC5E2F2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6: Considering the Visual Ranking Tool for Your Unit</a:t>
            </a:r>
            <a:br>
              <a:rPr sz="1200"/>
            </a:br>
            <a:br>
              <a:rPr sz="12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5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visiting Your Unit Plan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3752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1: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Understanding Best Classroom Practices </a:t>
            </a:r>
            <a:r>
              <a:rPr b="1" lang="en-US" sz="1400" spc="-1" strike="noStrike">
                <a:solidFill>
                  <a:srgbClr val="0860a8"/>
                </a:solidFill>
                <a:latin typeface="Verdana"/>
              </a:rPr>
              <a:t>–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6.20 – 6.23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view the following items as you plan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orking in team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tting Up and Implementing a Projec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aring Rank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flecting on Learn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Multiple Methods of Assessment throughout the Projec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FFC9C-FE69-43B9-B5A9-B1D5E542DBD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6: Considering the Visual Ranking Tool for Your Unit</a:t>
            </a:r>
            <a:br>
              <a:rPr sz="10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5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rying Out Your Visual Ranking Idea</a:t>
            </a:r>
            <a:br>
              <a:rPr sz="2400"/>
            </a:b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6160" y="1638000"/>
            <a:ext cx="8256600" cy="42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2: Revising Your Unit Plan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– Module 6.23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vise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Visual Ranking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Project Name, Project Description, Project Prompt, and Sorting List, if need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vise the Standards/Syllabus Outcomes and Curriculum Framing Questions, if necessar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 the Assessment Plan section, add your ideas for how you would assess the learning throughout the uni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vise the Assessment Timeline, as need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raft the Procedur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raft or outline the Unit Summar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03EA3-3246-4691-A198-7FFABB280F9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6: Considering the Visual Ranking Tool for Your Unit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6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haring Your Result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– Module 6.24</a:t>
            </a: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cuss your experience with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Visual Ranking Tool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d you try out an idea for your main unit or for a different project idea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nsidering your test results, do you think you will keep this tool in your unit plan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ow do you see the use of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Visual Ranking Tool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itting in with the objectives and standards/syllabus outcomes you are trying to target, and your overall plan for your unit?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ow will the use of this tool help students meet those needs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at questions do you still have about this project’s design, implementation, or assessment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5c00"/>
                </a:solidFill>
                <a:latin typeface="Verdana"/>
              </a:rPr>
              <a:t>[If using a wiki, enter the URL and directions here]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5CF17-100C-4855-9ECA-10E25FC3864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Where We Were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375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1: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rgeting Thinking in the Classroo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2: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signing Projec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3: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reating Curriculum Framing Questions to Support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nking Ski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4: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lanning Student-Centered Assess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Module 5: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Considering the Visual Ranking Tool for Your Uni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cuss best uses of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Visual Ranking To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Visual Ranking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Question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9D5EC-C20E-4EE4-AFEC-ABD2F4D7626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6: Considering the Visual Ranking Tool for Your Unit </a:t>
            </a:r>
            <a:br>
              <a:rPr sz="1200"/>
            </a:br>
            <a:br>
              <a:rPr sz="12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Extension Activity 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Finalising Your Visual Ranking Project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- Module 6.25</a:t>
            </a: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 </a:t>
            </a:r>
            <a:br>
              <a:rPr sz="3000"/>
            </a:b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860a8"/>
                </a:solidFill>
                <a:latin typeface="Verdana"/>
              </a:rPr>
              <a:t>If you anticipate that a </a:t>
            </a:r>
            <a:r>
              <a:rPr b="0" i="1" lang="en-AU" sz="1600" spc="-1" strike="noStrike">
                <a:solidFill>
                  <a:srgbClr val="0860a8"/>
                </a:solidFill>
                <a:latin typeface="Verdana"/>
              </a:rPr>
              <a:t>Visual Ranking</a:t>
            </a:r>
            <a:r>
              <a:rPr b="0" lang="en-AU" sz="1600" spc="-1" strike="noStrike">
                <a:solidFill>
                  <a:srgbClr val="0860a8"/>
                </a:solidFill>
                <a:latin typeface="Verdana"/>
              </a:rPr>
              <a:t> project will be implemented for your unit because it is a good fit for the unit’s objectives, complete any unfinished elements of your </a:t>
            </a:r>
            <a:r>
              <a:rPr b="0" i="1" lang="en-AU" sz="1600" spc="-1" strike="noStrike">
                <a:solidFill>
                  <a:srgbClr val="0860a8"/>
                </a:solidFill>
                <a:latin typeface="Verdana"/>
              </a:rPr>
              <a:t>Visual Ranking</a:t>
            </a:r>
            <a:r>
              <a:rPr b="0" lang="en-AU" sz="1600" spc="-1" strike="noStrike">
                <a:solidFill>
                  <a:srgbClr val="0860a8"/>
                </a:solidFill>
                <a:latin typeface="Verdana"/>
              </a:rPr>
              <a:t> project. 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860a8"/>
                </a:solidFill>
                <a:latin typeface="Verdana"/>
              </a:rPr>
              <a:t>Include appropriate references, comments and analysis in your student sample that you would expect your students to include in their </a:t>
            </a:r>
            <a:r>
              <a:rPr b="0" i="1" lang="en-AU" sz="1600" spc="-1" strike="noStrike">
                <a:solidFill>
                  <a:srgbClr val="0860a8"/>
                </a:solidFill>
                <a:latin typeface="Verdana"/>
              </a:rPr>
              <a:t>Visual Ranking</a:t>
            </a:r>
            <a:r>
              <a:rPr b="0" lang="en-AU" sz="1600" spc="-1" strike="noStrike">
                <a:solidFill>
                  <a:srgbClr val="0860a8"/>
                </a:solidFill>
                <a:latin typeface="Verdana"/>
              </a:rPr>
              <a:t> projects. 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860a8"/>
                </a:solidFill>
                <a:latin typeface="Verdana"/>
              </a:rPr>
              <a:t>Make any necessary edits to the project itself, and save your chang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5720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457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45720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B6C61-7F13-4874-8F5C-3BAE5880A9B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6: Considering the Visual Ranking Tool for Your Unit</a:t>
            </a:r>
            <a:br>
              <a:rPr sz="1400"/>
            </a:br>
            <a:br>
              <a:rPr sz="12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Module 6</a:t>
            </a:r>
            <a:br>
              <a:rPr sz="24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Summary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– Module 6.27</a:t>
            </a: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55760" y="1857240"/>
          <a:ext cx="8237520" cy="2874600"/>
        </p:xfrm>
        <a:graphic>
          <a:graphicData uri="http://schemas.openxmlformats.org/drawingml/2006/table">
            <a:tbl>
              <a:tblPr/>
              <a:tblGrid>
                <a:gridCol w="8237520"/>
              </a:tblGrid>
              <a:tr h="386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Module 6 Key Poi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</a:tr>
              <a:tr h="248796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73160" indent="-171720">
                        <a:spcBef>
                          <a:spcPts val="201"/>
                        </a:spcBef>
                        <a:buClr>
                          <a:srgbClr val="0860a8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1" marL="173160" indent="-171720">
                        <a:spcBef>
                          <a:spcPts val="799"/>
                        </a:spcBef>
                        <a:buClr>
                          <a:srgbClr val="0860a8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The </a:t>
                      </a:r>
                      <a:r>
                        <a:rPr b="0" i="1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Visual Ranking Tool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 helps to develop students’ collaboration, cooperation, and persuasion skills, as well as their ability to analyze, evaluate, and prioritize information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1" marL="173160" indent="-171720">
                        <a:spcBef>
                          <a:spcPts val="799"/>
                        </a:spcBef>
                        <a:buClr>
                          <a:srgbClr val="0860a8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The </a:t>
                      </a:r>
                      <a:r>
                        <a:rPr b="0" i="1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Visual Ranking Tool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 provides opportunities to extend the learning community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1" marL="173160" indent="-171720">
                        <a:spcBef>
                          <a:spcPts val="901"/>
                        </a:spcBef>
                        <a:buClr>
                          <a:srgbClr val="0860a8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A team’s verbal and written explanations for a ranking may be useful to determine the depth of their understanding.</a:t>
                      </a:r>
                      <a:r>
                        <a:rPr b="0" lang="en-US" sz="18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558FB-C711-4763-8689-92CBDD4B8C2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xt Module</a:t>
            </a:r>
            <a:br>
              <a:rPr sz="2600"/>
            </a:b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5760" y="1066680"/>
            <a:ext cx="8237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Module 7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860a8"/>
                </a:solidFill>
                <a:latin typeface="Verdana"/>
              </a:rPr>
              <a:t> </a:t>
            </a:r>
            <a:br>
              <a:rPr sz="10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ing the Seeing Reason Tool to Target Thinking Skill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cuss a unit that integrates the use of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Seeing Reason To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resent causal relationships visu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cuss best uses of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Seeing Reas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View and discuss ideas for incorporating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Seeing Reason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o your uni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velop and share a project idea that use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Seeing Reas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t up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Seeing Reason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ject onli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40F46-86BA-4AED-9B3B-57A3EF4C9A6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265480" y="2084400"/>
            <a:ext cx="4500360" cy="2247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DCF6F-FCFC-4B78-B64E-F032D118BE2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Where We Are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5760" y="1057320"/>
            <a:ext cx="8237520" cy="465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Module 6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onsidering the Visual Ranking Tool for Your Unit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y out a project idea using th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sual Ranking To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reate, share, and reflect on a practice ran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se your Unit Pla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uss you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sual Ranking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experi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DCBB7-5187-437C-8B9B-DC778D4F9F7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Where We Are Going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80880" y="1371600"/>
          <a:ext cx="8237520" cy="3235320"/>
        </p:xfrm>
        <a:graphic>
          <a:graphicData uri="http://schemas.openxmlformats.org/drawingml/2006/table">
            <a:tbl>
              <a:tblPr/>
              <a:tblGrid>
                <a:gridCol w="1830600"/>
                <a:gridCol w="6406920"/>
              </a:tblGrid>
              <a:tr h="57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7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Using the Seeing Reason Tool to Target Thinking Skil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8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onsidering the Seeing Reason Tool for Your Un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7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9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Using the Showing Evidence Tool to Target Thinking Skil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10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onsidering the Showing Evidence Tool for Your Un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11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ompleting Your Un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1B2B3-E279-4576-8C02-C63A796C8CB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Module 6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nsidering the Visual Ranking Tool for Your Unit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495680" y="1752120"/>
            <a:ext cx="401976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404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Objectiv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ry out project ideas that incorporate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Visual Ranking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o your uni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reate, share, and reflect on a practice rank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vise your Unit Pla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cuss your experience with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Visual Rank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84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4262400" cy="4262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5DE64-8A55-48F2-BAD5-CA45606AE61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6: Considering the Visual Ranking Tool for Your Unit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1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larifying Project Ideas for Using Visual Ranking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3752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60a8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1: Reviewing the Needs of Your Uni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– Module 6.01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382680" indent="-38124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pen your Unit Pla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82680" indent="-38124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view your “Teaching and Learning Taxonomy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82680" indent="-38124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view the standards/syllabus outcomes you identified as ones that could possibly benefit from the use of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Visual Ranking To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82680" indent="-38124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dentify or consider new objectives that could be supported by the use of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Visual Ranking To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4371840"/>
            <a:ext cx="8458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Note: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If you do not believ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Visual Ranking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would be a good fit for your unit, you will have the opportunity to try out an idea for a different unit during this module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4E6FA-372B-4C6C-8030-30EA95C73D4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6: Considering the Visual Ranking Tool for Your Unit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1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larifying Project Ideas for Using Visual Ranking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1523880"/>
            <a:ext cx="8305920" cy="29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4768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114768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2: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Viewing Sample Project Descriptions and 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Prompts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–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6.02–6.05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spcAft>
                <a:spcPts val="1001"/>
              </a:spcAft>
              <a:tabLst>
                <a:tab algn="l" pos="0"/>
                <a:tab algn="l" pos="114768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Aft>
                <a:spcPts val="1001"/>
              </a:spcAft>
              <a:buClr>
                <a:srgbClr val="0860a8"/>
              </a:buClr>
              <a:buFont typeface="Verdana"/>
              <a:buChar char="•"/>
              <a:tabLst>
                <a:tab algn="l" pos="114768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View project idea description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Aft>
                <a:spcPts val="1001"/>
              </a:spcAft>
              <a:buClr>
                <a:srgbClr val="0860a8"/>
              </a:buClr>
              <a:buFont typeface="Verdana"/>
              <a:buChar char="•"/>
              <a:tabLst>
                <a:tab algn="l" pos="114768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nsider tips for creating a prompt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685800" indent="-399960">
              <a:lnSpc>
                <a:spcPct val="100000"/>
              </a:lnSpc>
              <a:spcAft>
                <a:spcPts val="1001"/>
              </a:spcAft>
              <a:buClr>
                <a:srgbClr val="0860a8"/>
              </a:buClr>
              <a:buFont typeface="Verdana"/>
              <a:buChar char="–"/>
              <a:tabLst>
                <a:tab algn="l" pos="114768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clude the criteria for sorting, unless the criteria is team-specific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685800" indent="-399960">
              <a:lnSpc>
                <a:spcPct val="100000"/>
              </a:lnSpc>
              <a:spcAft>
                <a:spcPts val="1001"/>
              </a:spcAft>
              <a:buClr>
                <a:srgbClr val="0860a8"/>
              </a:buClr>
              <a:buFont typeface="Verdana"/>
              <a:buChar char="–"/>
              <a:tabLst>
                <a:tab algn="l" pos="114768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larify that they are sorting the entire list, not just picking the bes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685800" indent="-399960">
              <a:lnSpc>
                <a:spcPct val="100000"/>
              </a:lnSpc>
              <a:spcAft>
                <a:spcPts val="1001"/>
              </a:spcAft>
              <a:buClr>
                <a:srgbClr val="0860a8"/>
              </a:buClr>
              <a:buFont typeface="Verdana"/>
              <a:buChar char="–"/>
              <a:tabLst>
                <a:tab algn="l" pos="114768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larify meaning of qualifiers, such a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impac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,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 significance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,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 bes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48828-A477-4110-8024-A1A6E99F198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6: Considering the Visual Ranking Tool for Your Unit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1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larifying Project Ideas for Using Visual Ranking</a:t>
            </a:r>
            <a:br>
              <a:rPr sz="2400"/>
            </a:b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371240"/>
            <a:ext cx="4041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1523880"/>
            <a:ext cx="8534520" cy="24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4768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114768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3: 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haring Your Ideas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–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6.06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114768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228600">
              <a:lnSpc>
                <a:spcPct val="100000"/>
              </a:lnSpc>
              <a:buClr>
                <a:srgbClr val="0860a8"/>
              </a:buClr>
              <a:buFont typeface="Verdana"/>
              <a:buChar char="•"/>
              <a:tabLst>
                <a:tab algn="l" pos="114768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hare your ideas for a project incorporating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Visual Ranking Too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228600">
              <a:lnSpc>
                <a:spcPct val="100000"/>
              </a:lnSpc>
              <a:buClr>
                <a:srgbClr val="0860a8"/>
              </a:buClr>
              <a:buFont typeface="Verdana"/>
              <a:buChar char="•"/>
              <a:tabLst>
                <a:tab algn="l" pos="114768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vide feedback on ways to target higher order thinking skill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228600">
              <a:lnSpc>
                <a:spcPct val="100000"/>
              </a:lnSpc>
              <a:buClr>
                <a:srgbClr val="0860a8"/>
              </a:buClr>
              <a:buFont typeface="Verdana"/>
              <a:buChar char="•"/>
              <a:tabLst>
                <a:tab algn="l" pos="114768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228600">
              <a:lnSpc>
                <a:spcPct val="100000"/>
              </a:lnSpc>
              <a:tabLst>
                <a:tab algn="l" pos="0"/>
                <a:tab algn="l" pos="114768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</a:tabLst>
            </a:pPr>
            <a:r>
              <a:rPr b="0" lang="en-US" sz="2000" spc="-1" strike="noStrike">
                <a:solidFill>
                  <a:srgbClr val="ff5c00"/>
                </a:solidFill>
                <a:latin typeface="Verdana"/>
              </a:rPr>
              <a:t>[If using a wiki, enter the URL and directions here]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14768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03BA4-AA2E-4F0F-9A3D-D21BA83C1C1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6: Considering the Visual Ranking Tool for Your Unit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2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  <a:ea typeface="Times New Roman"/>
              </a:rPr>
              <a:t>Planning Your Project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5760" y="15998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1: 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Creating Your Own Project Description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              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and Prompt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– Module 6.07–6.08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view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Your Curriculum Framing Questions in your Unit Pla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Your Project Priorities on pages 2.17-2.2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eview the Project Reflection Checklist on page 6.1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ject Rubric on page 2.15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raft your project description and prompt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Note: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If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Visual Ranking Tool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use is not appropriate for your unit, use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Visual Ranking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ject Idea document in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Thinking Tools, Visual Ranking Tool Resources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lder available from the resource file site: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tmd.com.au/education/thinking/resour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65C06-F7D0-4786-861F-9F7D89F1E68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05:19:46Z</dcterms:created>
  <dc:creator>Kristen Merrill</dc:creator>
  <dc:description/>
  <dc:language>en-US</dc:language>
  <cp:lastModifiedBy>stephanie.georges</cp:lastModifiedBy>
  <dcterms:modified xsi:type="dcterms:W3CDTF">2009-01-21T03:16:48Z</dcterms:modified>
  <cp:revision>132</cp:revision>
  <dc:subject/>
  <dc:title>Presentation Title Goes Here</dc:title>
</cp:coreProperties>
</file>